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ADC-5905-49D0-ACDE-FA2DC5D2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440" y="528840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062-41DC-4667-BCCB-AAD140BF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67272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F06-32BB-41A8-B628-D733E196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65644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2708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44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65644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62708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DD8-7CEE-4E09-BE3E-12A6954E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5BDF-9092-40BA-9374-3BB7B164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8D88-CF05-4244-B0CE-5346660A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5D10-F0B7-4916-A36A-1A301BA6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BD12-1C65-48F5-AE9C-E97503B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15DC-799D-4CF5-B2A6-5DC0BF4F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440" y="369720"/>
            <a:ext cx="58294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741C-5EA8-4E63-99CE-F9D310EC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056F-59E6-4453-A144-61678810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AEF-9B91-4DEF-AC79-904B1466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67272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F539-F0A2-482D-A534-0C77B412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4ED6-5CA2-46BD-A5D8-53CDF8A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440" y="528840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C260-E343-4358-9AB4-D3BCA8B5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67272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64EF-600F-46D0-BA67-D07B2F6F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65644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27080" y="213336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44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265644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4627080" y="5288400"/>
            <a:ext cx="18766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7023-9FFE-4070-A451-D7A68D8C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C94-EE76-48E8-A0BE-2154DA69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AE7-FCA4-4901-ABBA-3D224B10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F99-DA88-4AF6-8ECB-4D395DC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440" y="369720"/>
            <a:ext cx="582948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5C4-FA20-4460-B27B-AB063E70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75D-8D89-45DF-B03D-AC1E23D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72720" y="528840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B41-2455-4A9D-838F-0010969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72720" y="2133360"/>
            <a:ext cx="2844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5288400"/>
            <a:ext cx="58294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293-B3A6-4DDC-80DB-A50F8EDE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6501960"/>
            <a:chOff x="0" y="0"/>
            <a:chExt cx="6514920" cy="65019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6501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890000"/>
              <a:ext cx="6229440" cy="242640"/>
              <a:chOff x="285480" y="1890000"/>
              <a:chExt cx="6229440" cy="24264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890000"/>
                <a:ext cx="1371600" cy="24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99152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8335800"/>
            <a:ext cx="148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8331120"/>
            <a:ext cx="2228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89DB-48FB-4E13-9C7B-18903649ECC4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650232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-360" y="-1440"/>
            <a:ext cx="297000" cy="9145080"/>
            <a:chOff x="-360" y="-1440"/>
            <a:chExt cx="297000" cy="9145080"/>
          </a:xfrm>
        </p:grpSpPr>
        <p:sp>
          <p:nvSpPr>
            <p:cNvPr id="12" name="Rectangle 14"/>
            <p:cNvSpPr/>
            <p:nvPr/>
          </p:nvSpPr>
          <p:spPr>
            <a:xfrm flipH="1">
              <a:off x="1440" y="-1440"/>
              <a:ext cx="271440" cy="9143280"/>
            </a:xfrm>
            <a:prstGeom prst="rect">
              <a:avLst/>
            </a:prstGeom>
            <a:gradFill rotWithShape="0">
              <a:gsLst>
                <a:gs pos="0">
                  <a:srgbClr val="adad82"/>
                </a:gs>
                <a:gs pos="50000">
                  <a:srgbClr val="cccc99"/>
                </a:gs>
                <a:gs pos="100000">
                  <a:srgbClr val="adad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960" y="0"/>
              <a:ext cx="292680" cy="8410320"/>
              <a:chOff x="3960" y="0"/>
              <a:chExt cx="292680" cy="8410320"/>
            </a:xfrm>
          </p:grpSpPr>
          <p:grpSp>
            <p:nvGrpSpPr>
              <p:cNvPr id="14" name="Group 16"/>
              <p:cNvGrpSpPr/>
              <p:nvPr/>
            </p:nvGrpSpPr>
            <p:grpSpPr>
              <a:xfrm>
                <a:off x="3960" y="0"/>
                <a:ext cx="172080" cy="3026160"/>
                <a:chOff x="3960" y="0"/>
                <a:chExt cx="172080" cy="30261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39960" y="0"/>
                  <a:ext cx="63000" cy="368280"/>
                  <a:chOff x="39960" y="0"/>
                  <a:chExt cx="63000" cy="368280"/>
                </a:xfrm>
              </p:grpSpPr>
              <p:grpSp>
                <p:nvGrpSpPr>
                  <p:cNvPr id="16" name="Group 18"/>
                  <p:cNvGrpSpPr/>
                  <p:nvPr/>
                </p:nvGrpSpPr>
                <p:grpSpPr>
                  <a:xfrm>
                    <a:off x="39960" y="0"/>
                    <a:ext cx="63000" cy="368280"/>
                    <a:chOff x="39960" y="0"/>
                    <a:chExt cx="63000" cy="368280"/>
                  </a:xfrm>
                </p:grpSpPr>
                <p:sp>
                  <p:nvSpPr>
                    <p:cNvPr id="17" name="Freeform 19"/>
                    <p:cNvSpPr/>
                    <p:nvPr/>
                  </p:nvSpPr>
                  <p:spPr>
                    <a:xfrm flipH="1" rot="5400000">
                      <a:off x="-63000" y="102600"/>
                      <a:ext cx="268200" cy="6300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560" bIns="16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 flipH="1" rot="5400000">
                      <a:off x="-19080" y="247680"/>
                      <a:ext cx="188640" cy="5220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760" bIns="5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" name="Oval 21"/>
                  <p:cNvSpPr/>
                  <p:nvPr/>
                </p:nvSpPr>
                <p:spPr>
                  <a:xfrm flipH="1" rot="5400000">
                    <a:off x="54000" y="185400"/>
                    <a:ext cx="37800" cy="612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flipH="1" rot="5400000">
                    <a:off x="58320" y="129240"/>
                    <a:ext cx="56880" cy="10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 flipH="1" rot="5400000">
                    <a:off x="23400" y="101160"/>
                    <a:ext cx="85680" cy="9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 flipH="1" rot="5400000">
                    <a:off x="39960" y="179640"/>
                    <a:ext cx="31680" cy="14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flipH="1" rot="5400000">
                    <a:off x="27360" y="267480"/>
                    <a:ext cx="83880" cy="6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 flipH="1" rot="5400000">
                    <a:off x="58680" y="242280"/>
                    <a:ext cx="50760" cy="9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" name="Picture 27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109080" y="30312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960" y="30312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57600" y="70956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4880" y="121716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3960" y="111564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40680" y="162360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3960" y="213156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9"/>
                <a:stretch/>
              </p:blipFill>
              <p:spPr>
                <a:xfrm flipH="1">
                  <a:off x="3960" y="263916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" name="Group 35"/>
              <p:cNvGrpSpPr/>
              <p:nvPr/>
            </p:nvGrpSpPr>
            <p:grpSpPr>
              <a:xfrm>
                <a:off x="109080" y="2131560"/>
                <a:ext cx="187560" cy="6278760"/>
                <a:chOff x="109080" y="2131560"/>
                <a:chExt cx="187560" cy="6278760"/>
              </a:xfrm>
            </p:grpSpPr>
            <p:pic>
              <p:nvPicPr>
                <p:cNvPr id="34" name="Picture 36" descr="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160920" y="213156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11"/>
                <a:stretch/>
              </p:blipFill>
              <p:spPr>
                <a:xfrm flipH="1">
                  <a:off x="144000" y="253800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12"/>
                <a:stretch/>
              </p:blipFill>
              <p:spPr>
                <a:xfrm flipH="1">
                  <a:off x="160920" y="335052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13"/>
                <a:stretch/>
              </p:blipFill>
              <p:spPr>
                <a:xfrm flipH="1">
                  <a:off x="109080" y="365508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14"/>
                <a:stretch/>
              </p:blipFill>
              <p:spPr>
                <a:xfrm flipH="1">
                  <a:off x="195840" y="385812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15"/>
                <a:stretch/>
              </p:blipFill>
              <p:spPr>
                <a:xfrm flipH="1">
                  <a:off x="178560" y="426456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16"/>
                <a:stretch/>
              </p:blipFill>
              <p:spPr>
                <a:xfrm flipH="1">
                  <a:off x="109080" y="436644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17"/>
                <a:stretch/>
              </p:blipFill>
              <p:spPr>
                <a:xfrm flipH="1">
                  <a:off x="126720" y="497592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18"/>
                <a:stretch/>
              </p:blipFill>
              <p:spPr>
                <a:xfrm flipH="1">
                  <a:off x="212760" y="467100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19"/>
                <a:stretch/>
              </p:blipFill>
              <p:spPr>
                <a:xfrm flipH="1">
                  <a:off x="212760" y="517896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" name="Picture 46" descr=""/>
                <p:cNvPicPr/>
                <p:nvPr/>
              </p:nvPicPr>
              <p:blipFill>
                <a:blip r:embed="rId20"/>
                <a:stretch/>
              </p:blipFill>
              <p:spPr>
                <a:xfrm flipH="1">
                  <a:off x="160920" y="548352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Picture 47" descr=""/>
                <p:cNvPicPr/>
                <p:nvPr/>
              </p:nvPicPr>
              <p:blipFill>
                <a:blip r:embed="rId21"/>
                <a:stretch/>
              </p:blipFill>
              <p:spPr>
                <a:xfrm flipH="1">
                  <a:off x="126720" y="294372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Picture 48" descr=""/>
                <p:cNvPicPr/>
                <p:nvPr/>
              </p:nvPicPr>
              <p:blipFill>
                <a:blip r:embed="rId22"/>
                <a:stretch/>
              </p:blipFill>
              <p:spPr>
                <a:xfrm flipH="1">
                  <a:off x="230040" y="578844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49" descr=""/>
                <p:cNvPicPr/>
                <p:nvPr/>
              </p:nvPicPr>
              <p:blipFill>
                <a:blip r:embed="rId23"/>
                <a:stretch/>
              </p:blipFill>
              <p:spPr>
                <a:xfrm flipH="1">
                  <a:off x="212760" y="649980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50" descr=""/>
                <p:cNvPicPr/>
                <p:nvPr/>
              </p:nvPicPr>
              <p:blipFill>
                <a:blip r:embed="rId24"/>
                <a:stretch/>
              </p:blipFill>
              <p:spPr>
                <a:xfrm flipH="1">
                  <a:off x="126720" y="700740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51" descr=""/>
                <p:cNvPicPr/>
                <p:nvPr/>
              </p:nvPicPr>
              <p:blipFill>
                <a:blip r:embed="rId25"/>
                <a:stretch/>
              </p:blipFill>
              <p:spPr>
                <a:xfrm flipH="1">
                  <a:off x="212760" y="721044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52" descr=""/>
                <p:cNvPicPr/>
                <p:nvPr/>
              </p:nvPicPr>
              <p:blipFill>
                <a:blip r:embed="rId26"/>
                <a:stretch/>
              </p:blipFill>
              <p:spPr>
                <a:xfrm flipH="1">
                  <a:off x="178560" y="751536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53" descr=""/>
                <p:cNvPicPr/>
                <p:nvPr/>
              </p:nvPicPr>
              <p:blipFill>
                <a:blip r:embed="rId27"/>
                <a:stretch/>
              </p:blipFill>
              <p:spPr>
                <a:xfrm flipH="1">
                  <a:off x="212760" y="8023320"/>
                  <a:ext cx="6696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Picture 54" descr=""/>
                <p:cNvPicPr/>
                <p:nvPr/>
              </p:nvPicPr>
              <p:blipFill>
                <a:blip r:embed="rId28"/>
                <a:stretch/>
              </p:blipFill>
              <p:spPr>
                <a:xfrm flipH="1">
                  <a:off x="144000" y="7819920"/>
                  <a:ext cx="6660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3" name="Freeform 55"/>
            <p:cNvSpPr/>
            <p:nvPr/>
          </p:nvSpPr>
          <p:spPr>
            <a:xfrm flipH="1">
              <a:off x="2880" y="6542640"/>
              <a:ext cx="270000" cy="25884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 flipH="1">
              <a:off x="0" y="6474960"/>
              <a:ext cx="276480" cy="26665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90033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 flipH="1">
              <a:off x="-360" y="3755160"/>
              <a:ext cx="279360" cy="5382360"/>
            </a:xfrm>
            <a:prstGeom prst="pie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 flipH="1">
              <a:off x="37800" y="4716000"/>
              <a:ext cx="222480" cy="2912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 flipH="1">
              <a:off x="-360" y="567720"/>
              <a:ext cx="208080" cy="67284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 flipH="1">
              <a:off x="-360" y="347760"/>
              <a:ext cx="206640" cy="4095000"/>
            </a:xfrm>
            <a:prstGeom prst="pie">
              <a:avLst/>
            </a:prstGeom>
            <a:gradFill rotWithShape="0">
              <a:gsLst>
                <a:gs pos="0">
                  <a:srgbClr val="ffffe1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 flipH="1">
              <a:off x="144360" y="-1440"/>
              <a:ext cx="130320" cy="44697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 flipH="1">
              <a:off x="207720" y="360"/>
              <a:ext cx="66600" cy="44701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90033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 flipH="1">
              <a:off x="273240" y="360"/>
              <a:ext cx="20160" cy="91432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 flipH="1">
              <a:off x="7560" y="8303760"/>
              <a:ext cx="263520" cy="825480"/>
            </a:xfrm>
            <a:prstGeom prst="pie">
              <a:avLst/>
            </a:prstGeom>
            <a:gradFill rotWithShape="0">
              <a:gsLst>
                <a:gs pos="0">
                  <a:srgbClr val="ffffe1"/>
                </a:gs>
                <a:gs pos="50000">
                  <a:srgbClr val="b2b2b2"/>
                </a:gs>
                <a:gs pos="100000">
                  <a:srgbClr val="fff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6571800" cy="7923960"/>
            <a:chOff x="0" y="0"/>
            <a:chExt cx="6571800" cy="7923960"/>
          </a:xfrm>
        </p:grpSpPr>
        <p:sp>
          <p:nvSpPr>
            <p:cNvPr id="100" name="Rectangle 3"/>
            <p:cNvSpPr/>
            <p:nvPr/>
          </p:nvSpPr>
          <p:spPr>
            <a:xfrm>
              <a:off x="0" y="0"/>
              <a:ext cx="1314000" cy="65023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"/>
            <p:cNvGrpSpPr/>
            <p:nvPr/>
          </p:nvGrpSpPr>
          <p:grpSpPr>
            <a:xfrm>
              <a:off x="0" y="4673520"/>
              <a:ext cx="6571800" cy="3250440"/>
              <a:chOff x="0" y="4673520"/>
              <a:chExt cx="6571800" cy="3250440"/>
            </a:xfrm>
          </p:grpSpPr>
          <p:sp>
            <p:nvSpPr>
              <p:cNvPr id="102" name="Rectangle 5"/>
              <p:cNvSpPr/>
              <p:nvPr/>
            </p:nvSpPr>
            <p:spPr>
              <a:xfrm>
                <a:off x="742680" y="4673520"/>
                <a:ext cx="5829120" cy="32504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"/>
              <p:cNvSpPr/>
              <p:nvPr/>
            </p:nvSpPr>
            <p:spPr>
              <a:xfrm>
                <a:off x="779400" y="4978080"/>
                <a:ext cx="5735160" cy="28508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7"/>
              <p:cNvSpPr/>
              <p:nvPr/>
            </p:nvSpPr>
            <p:spPr>
              <a:xfrm>
                <a:off x="0" y="650196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8"/>
            <p:cNvGrpSpPr/>
            <p:nvPr/>
          </p:nvGrpSpPr>
          <p:grpSpPr>
            <a:xfrm>
              <a:off x="475920" y="711000"/>
              <a:ext cx="6057720" cy="405360"/>
              <a:chOff x="475920" y="711000"/>
              <a:chExt cx="6057720" cy="405360"/>
            </a:xfrm>
          </p:grpSpPr>
          <p:sp>
            <p:nvSpPr>
              <p:cNvPr id="106" name="Rectangle 9"/>
              <p:cNvSpPr/>
              <p:nvPr/>
            </p:nvSpPr>
            <p:spPr>
              <a:xfrm>
                <a:off x="4704480" y="711000"/>
                <a:ext cx="1828800" cy="4053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0"/>
              <p:cNvSpPr/>
              <p:nvPr/>
            </p:nvSpPr>
            <p:spPr>
              <a:xfrm>
                <a:off x="475920" y="91368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16"/>
          <p:cNvGrpSpPr/>
          <p:nvPr/>
        </p:nvGrpSpPr>
        <p:grpSpPr>
          <a:xfrm>
            <a:off x="-360" y="-1440"/>
            <a:ext cx="297000" cy="9145080"/>
            <a:chOff x="-360" y="-1440"/>
            <a:chExt cx="297000" cy="9145080"/>
          </a:xfrm>
        </p:grpSpPr>
        <p:sp>
          <p:nvSpPr>
            <p:cNvPr id="109" name="Rectangle 17"/>
            <p:cNvSpPr/>
            <p:nvPr/>
          </p:nvSpPr>
          <p:spPr>
            <a:xfrm flipH="1">
              <a:off x="1080" y="-1440"/>
              <a:ext cx="269640" cy="9143280"/>
            </a:xfrm>
            <a:prstGeom prst="rect">
              <a:avLst/>
            </a:prstGeom>
            <a:gradFill rotWithShape="0">
              <a:gsLst>
                <a:gs pos="0">
                  <a:srgbClr val="adad82"/>
                </a:gs>
                <a:gs pos="50000">
                  <a:srgbClr val="cccc99"/>
                </a:gs>
                <a:gs pos="100000">
                  <a:srgbClr val="adad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8"/>
            <p:cNvGrpSpPr/>
            <p:nvPr/>
          </p:nvGrpSpPr>
          <p:grpSpPr>
            <a:xfrm>
              <a:off x="6120" y="2520"/>
              <a:ext cx="290520" cy="8407800"/>
              <a:chOff x="6120" y="2520"/>
              <a:chExt cx="290520" cy="8407800"/>
            </a:xfrm>
          </p:grpSpPr>
          <p:grpSp>
            <p:nvGrpSpPr>
              <p:cNvPr id="111" name="Group 19"/>
              <p:cNvGrpSpPr/>
              <p:nvPr/>
            </p:nvGrpSpPr>
            <p:grpSpPr>
              <a:xfrm>
                <a:off x="6120" y="2520"/>
                <a:ext cx="171000" cy="3023280"/>
                <a:chOff x="6120" y="2520"/>
                <a:chExt cx="171000" cy="3023280"/>
              </a:xfrm>
            </p:grpSpPr>
            <p:grpSp>
              <p:nvGrpSpPr>
                <p:cNvPr id="112" name="Group 20"/>
                <p:cNvGrpSpPr/>
                <p:nvPr/>
              </p:nvGrpSpPr>
              <p:grpSpPr>
                <a:xfrm>
                  <a:off x="42840" y="2520"/>
                  <a:ext cx="63000" cy="367920"/>
                  <a:chOff x="42840" y="2520"/>
                  <a:chExt cx="63000" cy="367920"/>
                </a:xfrm>
              </p:grpSpPr>
              <p:grpSp>
                <p:nvGrpSpPr>
                  <p:cNvPr id="113" name="Group 21"/>
                  <p:cNvGrpSpPr/>
                  <p:nvPr/>
                </p:nvGrpSpPr>
                <p:grpSpPr>
                  <a:xfrm>
                    <a:off x="42840" y="2520"/>
                    <a:ext cx="63000" cy="367920"/>
                    <a:chOff x="42840" y="2520"/>
                    <a:chExt cx="63000" cy="367920"/>
                  </a:xfrm>
                </p:grpSpPr>
                <p:sp>
                  <p:nvSpPr>
                    <p:cNvPr id="114" name="Freeform 22"/>
                    <p:cNvSpPr/>
                    <p:nvPr/>
                  </p:nvSpPr>
                  <p:spPr>
                    <a:xfrm flipH="1" rot="5400000">
                      <a:off x="-59760" y="104760"/>
                      <a:ext cx="267840" cy="6300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560" bIns="16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23"/>
                    <p:cNvSpPr/>
                    <p:nvPr/>
                  </p:nvSpPr>
                  <p:spPr>
                    <a:xfrm flipH="1" rot="5400000">
                      <a:off x="-15120" y="250920"/>
                      <a:ext cx="188640" cy="5040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" name="Oval 24"/>
                  <p:cNvSpPr/>
                  <p:nvPr/>
                </p:nvSpPr>
                <p:spPr>
                  <a:xfrm flipH="1" rot="5400000">
                    <a:off x="56880" y="188280"/>
                    <a:ext cx="37800" cy="612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25"/>
                  <p:cNvSpPr/>
                  <p:nvPr/>
                </p:nvSpPr>
                <p:spPr>
                  <a:xfrm flipH="1" rot="5400000">
                    <a:off x="61200" y="131040"/>
                    <a:ext cx="56880" cy="12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6"/>
                  <p:cNvSpPr/>
                  <p:nvPr/>
                </p:nvSpPr>
                <p:spPr>
                  <a:xfrm flipH="1" rot="5400000">
                    <a:off x="25560" y="103320"/>
                    <a:ext cx="85680" cy="7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27"/>
                  <p:cNvSpPr/>
                  <p:nvPr/>
                </p:nvSpPr>
                <p:spPr>
                  <a:xfrm flipH="1" rot="5400000">
                    <a:off x="42840" y="182520"/>
                    <a:ext cx="31680" cy="14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28"/>
                  <p:cNvSpPr/>
                  <p:nvPr/>
                </p:nvSpPr>
                <p:spPr>
                  <a:xfrm flipH="1" rot="5400000">
                    <a:off x="27720" y="270720"/>
                    <a:ext cx="83880" cy="46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29"/>
                  <p:cNvSpPr/>
                  <p:nvPr/>
                </p:nvSpPr>
                <p:spPr>
                  <a:xfrm flipH="1" rot="5400000">
                    <a:off x="61920" y="245520"/>
                    <a:ext cx="50400" cy="9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2" name="Picture 30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110880" y="30276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6120" y="30276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2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59760" y="70920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3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6680" y="121680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4" descr="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6120" y="111528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5" descr="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42480" y="162360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6" descr="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6120" y="213120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7" descr=""/>
                <p:cNvPicPr/>
                <p:nvPr/>
              </p:nvPicPr>
              <p:blipFill>
                <a:blip r:embed="rId9"/>
                <a:stretch/>
              </p:blipFill>
              <p:spPr>
                <a:xfrm flipH="1">
                  <a:off x="6120" y="263880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0" name="Group 38"/>
              <p:cNvGrpSpPr/>
              <p:nvPr/>
            </p:nvGrpSpPr>
            <p:grpSpPr>
              <a:xfrm>
                <a:off x="110520" y="2131560"/>
                <a:ext cx="186120" cy="6278760"/>
                <a:chOff x="110520" y="2131560"/>
                <a:chExt cx="186120" cy="6278760"/>
              </a:xfrm>
            </p:grpSpPr>
            <p:pic>
              <p:nvPicPr>
                <p:cNvPr id="131" name="Picture 39" descr="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162000" y="213156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40" descr=""/>
                <p:cNvPicPr/>
                <p:nvPr/>
              </p:nvPicPr>
              <p:blipFill>
                <a:blip r:embed="rId11"/>
                <a:stretch/>
              </p:blipFill>
              <p:spPr>
                <a:xfrm flipH="1">
                  <a:off x="145080" y="253800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41" descr=""/>
                <p:cNvPicPr/>
                <p:nvPr/>
              </p:nvPicPr>
              <p:blipFill>
                <a:blip r:embed="rId12"/>
                <a:stretch/>
              </p:blipFill>
              <p:spPr>
                <a:xfrm flipH="1">
                  <a:off x="162000" y="335052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2" descr=""/>
                <p:cNvPicPr/>
                <p:nvPr/>
              </p:nvPicPr>
              <p:blipFill>
                <a:blip r:embed="rId13"/>
                <a:stretch/>
              </p:blipFill>
              <p:spPr>
                <a:xfrm flipH="1">
                  <a:off x="110520" y="365508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3" descr=""/>
                <p:cNvPicPr/>
                <p:nvPr/>
              </p:nvPicPr>
              <p:blipFill>
                <a:blip r:embed="rId14"/>
                <a:stretch/>
              </p:blipFill>
              <p:spPr>
                <a:xfrm flipH="1">
                  <a:off x="196200" y="385812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4" descr=""/>
                <p:cNvPicPr/>
                <p:nvPr/>
              </p:nvPicPr>
              <p:blipFill>
                <a:blip r:embed="rId15"/>
                <a:stretch/>
              </p:blipFill>
              <p:spPr>
                <a:xfrm flipH="1">
                  <a:off x="179280" y="426456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5" descr=""/>
                <p:cNvPicPr/>
                <p:nvPr/>
              </p:nvPicPr>
              <p:blipFill>
                <a:blip r:embed="rId16"/>
                <a:stretch/>
              </p:blipFill>
              <p:spPr>
                <a:xfrm flipH="1">
                  <a:off x="110520" y="436644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6" descr=""/>
                <p:cNvPicPr/>
                <p:nvPr/>
              </p:nvPicPr>
              <p:blipFill>
                <a:blip r:embed="rId17"/>
                <a:stretch/>
              </p:blipFill>
              <p:spPr>
                <a:xfrm flipH="1">
                  <a:off x="127800" y="497592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7" descr=""/>
                <p:cNvPicPr/>
                <p:nvPr/>
              </p:nvPicPr>
              <p:blipFill>
                <a:blip r:embed="rId18"/>
                <a:stretch/>
              </p:blipFill>
              <p:spPr>
                <a:xfrm flipH="1">
                  <a:off x="213480" y="467100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48" descr=""/>
                <p:cNvPicPr/>
                <p:nvPr/>
              </p:nvPicPr>
              <p:blipFill>
                <a:blip r:embed="rId19"/>
                <a:stretch/>
              </p:blipFill>
              <p:spPr>
                <a:xfrm flipH="1">
                  <a:off x="213480" y="517896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49" descr=""/>
                <p:cNvPicPr/>
                <p:nvPr/>
              </p:nvPicPr>
              <p:blipFill>
                <a:blip r:embed="rId20"/>
                <a:stretch/>
              </p:blipFill>
              <p:spPr>
                <a:xfrm flipH="1">
                  <a:off x="162000" y="548352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Picture 50" descr=""/>
                <p:cNvPicPr/>
                <p:nvPr/>
              </p:nvPicPr>
              <p:blipFill>
                <a:blip r:embed="rId21"/>
                <a:stretch/>
              </p:blipFill>
              <p:spPr>
                <a:xfrm flipH="1">
                  <a:off x="127800" y="294372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Picture 51" descr=""/>
                <p:cNvPicPr/>
                <p:nvPr/>
              </p:nvPicPr>
              <p:blipFill>
                <a:blip r:embed="rId22"/>
                <a:stretch/>
              </p:blipFill>
              <p:spPr>
                <a:xfrm flipH="1">
                  <a:off x="230400" y="578844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Picture 52" descr=""/>
                <p:cNvPicPr/>
                <p:nvPr/>
              </p:nvPicPr>
              <p:blipFill>
                <a:blip r:embed="rId23"/>
                <a:stretch/>
              </p:blipFill>
              <p:spPr>
                <a:xfrm flipH="1">
                  <a:off x="213480" y="649980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Picture 53" descr=""/>
                <p:cNvPicPr/>
                <p:nvPr/>
              </p:nvPicPr>
              <p:blipFill>
                <a:blip r:embed="rId24"/>
                <a:stretch/>
              </p:blipFill>
              <p:spPr>
                <a:xfrm flipH="1">
                  <a:off x="127800" y="700740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54" descr=""/>
                <p:cNvPicPr/>
                <p:nvPr/>
              </p:nvPicPr>
              <p:blipFill>
                <a:blip r:embed="rId25"/>
                <a:stretch/>
              </p:blipFill>
              <p:spPr>
                <a:xfrm flipH="1">
                  <a:off x="213480" y="721044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55" descr=""/>
                <p:cNvPicPr/>
                <p:nvPr/>
              </p:nvPicPr>
              <p:blipFill>
                <a:blip r:embed="rId26"/>
                <a:stretch/>
              </p:blipFill>
              <p:spPr>
                <a:xfrm flipH="1">
                  <a:off x="179280" y="751536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56" descr=""/>
                <p:cNvPicPr/>
                <p:nvPr/>
              </p:nvPicPr>
              <p:blipFill>
                <a:blip r:embed="rId27"/>
                <a:stretch/>
              </p:blipFill>
              <p:spPr>
                <a:xfrm flipH="1">
                  <a:off x="213480" y="802332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57" descr=""/>
                <p:cNvPicPr/>
                <p:nvPr/>
              </p:nvPicPr>
              <p:blipFill>
                <a:blip r:embed="rId28"/>
                <a:stretch/>
              </p:blipFill>
              <p:spPr>
                <a:xfrm flipH="1">
                  <a:off x="145080" y="7819920"/>
                  <a:ext cx="6624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0" name="Freeform 58"/>
            <p:cNvSpPr/>
            <p:nvPr/>
          </p:nvSpPr>
          <p:spPr>
            <a:xfrm flipH="1">
              <a:off x="2520" y="6542640"/>
              <a:ext cx="268200" cy="25884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9"/>
            <p:cNvSpPr/>
            <p:nvPr/>
          </p:nvSpPr>
          <p:spPr>
            <a:xfrm flipH="1">
              <a:off x="-720" y="6474960"/>
              <a:ext cx="274680" cy="26665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90033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0"/>
            <p:cNvSpPr/>
            <p:nvPr/>
          </p:nvSpPr>
          <p:spPr>
            <a:xfrm flipH="1">
              <a:off x="-720" y="3755160"/>
              <a:ext cx="277560" cy="5382360"/>
            </a:xfrm>
            <a:prstGeom prst="pie">
              <a:avLst/>
            </a:prstGeom>
            <a:gradFill rotWithShape="0">
              <a:gsLst>
                <a:gs pos="0">
                  <a:srgbClr val="760000"/>
                </a:gs>
                <a:gs pos="50000">
                  <a:srgbClr val="ff0000"/>
                </a:gs>
                <a:gs pos="100000">
                  <a:srgbClr val="7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61"/>
            <p:cNvSpPr/>
            <p:nvPr/>
          </p:nvSpPr>
          <p:spPr>
            <a:xfrm flipH="1">
              <a:off x="37440" y="4716000"/>
              <a:ext cx="221040" cy="2912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2"/>
            <p:cNvSpPr/>
            <p:nvPr/>
          </p:nvSpPr>
          <p:spPr>
            <a:xfrm flipH="1">
              <a:off x="-360" y="567720"/>
              <a:ext cx="206640" cy="67284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3"/>
            <p:cNvSpPr/>
            <p:nvPr/>
          </p:nvSpPr>
          <p:spPr>
            <a:xfrm flipH="1">
              <a:off x="-360" y="347760"/>
              <a:ext cx="205200" cy="4095000"/>
            </a:xfrm>
            <a:prstGeom prst="pie">
              <a:avLst/>
            </a:prstGeom>
            <a:gradFill rotWithShape="0">
              <a:gsLst>
                <a:gs pos="0">
                  <a:srgbClr val="ffffe1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4"/>
            <p:cNvSpPr/>
            <p:nvPr/>
          </p:nvSpPr>
          <p:spPr>
            <a:xfrm flipH="1">
              <a:off x="142920" y="-1440"/>
              <a:ext cx="129240" cy="44697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5"/>
            <p:cNvSpPr/>
            <p:nvPr/>
          </p:nvSpPr>
          <p:spPr>
            <a:xfrm flipH="1">
              <a:off x="206280" y="360"/>
              <a:ext cx="65880" cy="44701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990033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6"/>
            <p:cNvSpPr/>
            <p:nvPr/>
          </p:nvSpPr>
          <p:spPr>
            <a:xfrm flipH="1">
              <a:off x="271440" y="360"/>
              <a:ext cx="20160" cy="91432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7"/>
            <p:cNvSpPr/>
            <p:nvPr/>
          </p:nvSpPr>
          <p:spPr>
            <a:xfrm flipH="1">
              <a:off x="7200" y="8303760"/>
              <a:ext cx="261720" cy="825480"/>
            </a:xfrm>
            <a:prstGeom prst="pie">
              <a:avLst/>
            </a:prstGeom>
            <a:gradFill rotWithShape="0">
              <a:gsLst>
                <a:gs pos="0">
                  <a:srgbClr val="ffffe1"/>
                </a:gs>
                <a:gs pos="50000">
                  <a:srgbClr val="b2b2b2"/>
                </a:gs>
                <a:gs pos="100000">
                  <a:srgbClr val="fff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697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440" y="2133360"/>
            <a:ext cx="582948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684360" y="833580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251568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5086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B48A-9C5B-45F5-9A7C-B7998773123E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unap"/>
          <p:cNvPicPr/>
          <p:nvPr/>
        </p:nvPicPr>
        <p:blipFill>
          <a:blip r:embed="rId1"/>
          <a:stretch/>
        </p:blipFill>
        <p:spPr>
          <a:xfrm>
            <a:off x="1285920" y="1357200"/>
            <a:ext cx="4643280" cy="6818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142920" y="1702080"/>
            <a:ext cx="6500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0033"/>
                </a:solidFill>
                <a:latin typeface="Dauphin"/>
              </a:rPr>
              <a:t>OFICINA GENERAL DE PLANIFICACIÓN Y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0033"/>
                </a:solidFill>
                <a:latin typeface="Dauphin"/>
              </a:rPr>
              <a:t>OFICINA EJECUTIVA DE RACION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8"/>
          <p:cNvSpPr/>
          <p:nvPr/>
        </p:nvSpPr>
        <p:spPr>
          <a:xfrm>
            <a:off x="566640" y="6767640"/>
            <a:ext cx="5994360" cy="52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2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285840" y="0"/>
            <a:ext cx="6572160" cy="1000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566640" y="3884400"/>
            <a:ext cx="5994360" cy="886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0033"/>
                </a:solidFill>
                <a:latin typeface="Dauphin"/>
              </a:rPr>
              <a:t>EVALUACIÓN DEL PLAN OPERATIVO ANUAL </a:t>
            </a:r>
            <a:r>
              <a:rPr b="1" lang="es-ES" sz="2800" spc="-1" strike="noStrike">
                <a:solidFill>
                  <a:srgbClr val="330033"/>
                </a:solidFill>
                <a:latin typeface="Dauphin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0:06:19Z</dcterms:created>
  <dc:creator>PC01</dc:creator>
  <dc:description/>
  <dc:language>en-US</dc:language>
  <cp:lastModifiedBy>Usuario</cp:lastModifiedBy>
  <dcterms:modified xsi:type="dcterms:W3CDTF">2010-03-26T18:30:55Z</dcterms:modified>
  <cp:revision>99</cp:revision>
  <dc:subject/>
  <dc:title>Diapositiva 1</dc:title>
</cp:coreProperties>
</file>